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C4A-B37A-4141-B9F6-C435A130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FE3-6CB5-4A65-8D2E-F2AB139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CD2-188E-42AB-BD8A-83328281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48-94EE-42D5-BDA6-2A58993A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C09-2643-4B57-82F0-5B6262D3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6D2-7DD6-4BDD-A89C-6168D2F6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1BF-4F01-4D9F-9DBA-959881A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5F1-AC2B-4063-BAF0-97E595C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3DE-4DB3-4D2B-83D7-308C8E6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170-AE22-49F3-9B3D-F101677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626-E018-48BE-A4A2-1538BD9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7A6-8B12-4FEA-B314-6C36FC9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D165-F860-4238-9C40-8A6E974A3858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CABINE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:\FOTOS_SCANIZADAS\MAQUINAS E ALFAIAS\Tractor\Cabine de segurança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FOTOS_SCANIZADAS\MAQUINAS E ALFAIAS\Tractor\Tractor de 4 rodas motrizes desiguais.jpg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ador de Posição da Imagem Online 4" descr=""/>
          <p:cNvPicPr/>
          <p:nvPr/>
        </p:nvPicPr>
        <p:blipFill>
          <a:blip r:embed="rId1"/>
          <a:stretch/>
        </p:blipFill>
        <p:spPr>
          <a:xfrm>
            <a:off x="1403280" y="609480"/>
            <a:ext cx="6015240" cy="579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FOTOS_SCANIZADAS\MAQUINAS E ALFAIAS\Tractor\Tractor de 4 rodas motrizes iguais.jpg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DE RASTOS (LAGARTAS OU ESTE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FOTOS_SCANIZADAS\MAQUINAS E ALFAIAS\Tractor\Tractor de lagartas.jpg"/>
          <p:cNvPicPr/>
          <p:nvPr/>
        </p:nvPicPr>
        <p:blipFill>
          <a:blip r:embed="rId1"/>
          <a:stretch/>
        </p:blipFill>
        <p:spPr>
          <a:xfrm>
            <a:off x="457200" y="20574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FOTOS_SCANIZADAS\MAQUINAS E ALFAIAS\Tractor\Tractor de rastos_pormenor.jpg"/>
          <p:cNvPicPr/>
          <p:nvPr/>
        </p:nvPicPr>
        <p:blipFill>
          <a:blip r:embed="rId1"/>
          <a:stretch/>
        </p:blipFill>
        <p:spPr>
          <a:xfrm>
            <a:off x="1447920" y="2286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TRACTOR DE RODAS GÉM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FOTOS_SCANIZADAS\MAQUINAS E ALFAIAS\Tractor\Tractor de rodas gemeas.jpg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ESTR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FOTOS_SCANIZADAS\MAQUINAS E ALFAIAS\Tractor\Tractor estreito.jpg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FL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FOTOS_SCANIZADAS\MAQUINAS E ALFAIAS\Tractor\Tractor floresta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PERN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FOTOS_SCANIZADAS\MAQUINAS E ALFAIAS\Tractor\Tractor pernalta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FORMAÇÃO PROFISSIONAL\Imagens de Apoio\Cores\Tractor\Constituição.jpg"/>
          <p:cNvPicPr/>
          <p:nvPr/>
        </p:nvPicPr>
        <p:blipFill>
          <a:blip r:embed="rId1"/>
          <a:stretch/>
        </p:blipFill>
        <p:spPr>
          <a:xfrm>
            <a:off x="304920" y="228600"/>
            <a:ext cx="86248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ARCO DE SEGURANÇA OU PÓR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FOTOS_SCANIZADAS\MAQUINAS E ALFAIAS\Tractor\Arco de segurança tipo pórtico.jpg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FORMAÇÃO PROFISSIONAL\Imagens de Apoio\Cores\Tractor\Utiização.jpg"/>
          <p:cNvPicPr/>
          <p:nvPr/>
        </p:nvPicPr>
        <p:blipFill>
          <a:blip r:embed="rId1"/>
          <a:stretch/>
        </p:blipFill>
        <p:spPr>
          <a:xfrm>
            <a:off x="228600" y="45720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FORMAÇÃO PROFISSIONAL\Imagens de Apoio\Cores\Tractor\Utiização1.jpg"/>
          <p:cNvPicPr/>
          <p:nvPr/>
        </p:nvPicPr>
        <p:blipFill>
          <a:blip r:embed="rId1"/>
          <a:stretch/>
        </p:blipFill>
        <p:spPr>
          <a:xfrm>
            <a:off x="533520" y="533520"/>
            <a:ext cx="83246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FORMAÇÃO PROFISSIONAL\Imagens de Apoio\Cores\Tractor\Utiização2.jpg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R DE ARRAN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FOTOS_SCANIZADAS\MAQUINAS E ALFAIAS\Tractor\Motor de arranque.jpg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523880"/>
            <a:ext cx="5410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FOTOS_SCANIZADAS\MAQUINAS E ALFAIAS\Tractor\Sistema hidraulico.jpg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4 TEMPOS DO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609480" y="1828800"/>
          <a:ext cx="762012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QUADRO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FOTOS_SCANIZADAS\MAQUINAS E ALFAIAS\Tractor\Quadro de Segurança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ICRO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C:\FOTOS_SCANIZADAS\MAQUINAS E ALFAIAS\Tractor\Microtractor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CULTIV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FOTOS_SCANIZADAS\MAQUINAS E ALFAIAS\Tractor\Motocultivador.jpg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ENX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FOTOS_SCANIZADAS\MAQUINAS E ALFAIAS\Tractor\Motoenxada.jpg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GADANH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FOTOS_SCANIZADAS\MAQUINAS E ALFAIAS\Tractor\Motogadanheira.jpg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FOTOS_SCANIZADAS\MAQUINAS E ALFAIAS\Tractor\Tractor articulado.jpg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FOTOS_SCANIZADAS\MAQUINAS E ALFAIAS\Tractor\Tractor de 2 rodas motrizes.jpg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6:55Z</dcterms:modified>
  <cp:revision>7</cp:revision>
  <dc:subject/>
  <dc:title>ARCO DE SEGURANÇA OU PÓRTICO</dc:title>
</cp:coreProperties>
</file>